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9F9C-F416-4314-9253-45D28FFF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8404-0CF9-46C6-8CDF-4674C130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8FB9-CD14-4FCB-941A-D08A13C3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4E6A-CE40-4ECF-AB2B-3C474591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25F7-63D5-46FC-8FE2-E04DF666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B1CC-7435-47E1-B312-4787C01E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478D-C7F4-4875-9F80-59ABB2FD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1D4-78F4-42F8-AF42-A6FA4CE7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B743-A646-4785-A58A-2F2668DF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AF8-A814-472A-9605-98A0AA1F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1325-8D4F-4385-ADF1-A2B34CA7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89C5-FC00-4113-908E-5F012E6C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C3D5-802D-4565-BB3A-E9551363F8E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youtube.com/watch?v=3QuztuwAa4o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6711840" cy="4176720"/>
          </a:xfrm>
          <a:prstGeom prst="rect">
            <a:avLst/>
          </a:prstGeom>
          <a:ln w="0">
            <a:noFill/>
          </a:ln>
        </p:spPr>
      </p:pic>
      <p:sp>
        <p:nvSpPr>
          <p:cNvPr id="42" name="2 CuadroTexto"/>
          <p:cNvSpPr/>
          <p:nvPr/>
        </p:nvSpPr>
        <p:spPr>
          <a:xfrm>
            <a:off x="1403280" y="537372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oesía amorosa del siglo XVI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ES La Rosaleda (Málag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9:13:26Z</dcterms:created>
  <dc:creator>Mari</dc:creator>
  <dc:description/>
  <dc:language>en-US</dc:language>
  <cp:lastModifiedBy>Mari</cp:lastModifiedBy>
  <dcterms:modified xsi:type="dcterms:W3CDTF">2015-04-21T19:25:13Z</dcterms:modified>
  <cp:revision>1</cp:revision>
  <dc:subject/>
  <dc:title>Diapositiva 1</dc:title>
</cp:coreProperties>
</file>